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342-789F-4C6F-A6C2-6C3DFFD5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F28-8374-4CDC-8668-0FAF6C57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A82-90AF-4A72-ABE1-96FD254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6FE-C3BE-4EF4-854F-CF050F0C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6CE05-3001-45FD-BEAC-3DE438D7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44854-50E2-4118-A7BD-189B5F17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0258-184A-49DC-9C74-D190718C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B3DD-522B-46F4-8D99-3F8C91FB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DED73-70A0-44A6-A347-B8BC284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52E0-721D-49D0-BC7C-4EBD3C3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9FFA-F032-4172-8437-417A1DD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389-07E1-4EAD-8E95-BEE955BA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8A2D-1937-4932-8D02-9612707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BAD6C-B9CF-4BD9-8039-2A749C6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5A03-2BA6-477F-9C45-DFC3EB5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B98B-4FC8-4432-8D03-90A1DF3F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E9C7F-AF63-4EEE-88F6-E167D091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E547-35E9-454F-8BAC-781749B7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4853-DD02-49C0-9324-CF0CEE3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0CD5-8036-40A6-839C-039A42B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C313-C2E9-4933-8591-264BBF68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96E9-AE3A-46EE-92AA-BFC2AED5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31B-8072-4B39-AF5B-611BA7CE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0D22-E8DD-4A5B-BDC4-779A4A21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903E-B824-47F3-91AE-FE12B024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07E5-450B-413C-9E29-7330609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81C8-8A8D-47F1-82D8-CDCC456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A1C9-66BC-4A8E-A4D1-CD0E83BB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8350F-9F1A-44A0-880C-57673A78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2947-5D3D-4EAF-A5AF-49B9FC28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CB47-067B-483E-867C-FA4BEEBC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0319-F3D3-4C6D-A9A1-952FD72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E53D-77EE-4B2A-AEC0-C27133D5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7F1-D965-40E5-8AB7-A4FF283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62D1-B5D0-4890-AE53-84C6E08D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7A68-7BD0-4D6B-9366-7A0F27B4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2DC9-7BE6-484A-8461-3A5D0E5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77EB-3E6D-4830-A0BA-C56860B0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DA6E-954C-41D7-AC6E-273CA61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3B4B-912D-4888-ACFA-0EE33B9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59BD-E489-4AF3-9852-1247ACC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7B19-D8A9-4A33-B1A7-36A0D028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84DF-4EE2-43B7-931A-9D22E92A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91EC7-D70E-4F52-B199-8D0D65B6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30F-069D-4827-9CC0-BD36AF8A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C5A60-86A7-4476-97C5-311D486D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8D08-44F8-4B1E-8227-0FF93815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DC79-E344-4411-BE61-0C2DE0A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4964-9F89-4ACF-871B-AA56DE7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043D-4DEE-4475-A248-09DEC964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4BFD-D44A-43CC-A620-080B284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447D-9967-4E4F-A9C4-2372731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CB91-D8B5-46B7-BD29-9D48A62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4380-1C2F-4135-AEBD-1F8A86F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3ED08-3D90-4B0B-A0E3-41178423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88-56B5-4684-AEC5-AE132018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273F-A472-4934-A870-295CEF68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7EC83-B838-46B9-BAAA-CBD62A45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341B-7211-478E-821C-249CC707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2A4F-CBAB-4419-8419-9A8F3FC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F06B-555F-4BFD-85BD-FFDDCA4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C77E-CD26-4B37-A0FF-DC808A93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5D0A-C43D-4A42-8AD4-8AAB046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73B6-C366-4F08-9F59-EF9A95D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CC6B2-E90D-495F-9F83-7604801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E8BF-4185-4F21-B77F-2007204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9F5-7516-4F1C-85C8-FE27F6F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AA40-B7BD-4B6F-9EA9-2056A0F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F943-FE33-45B8-9CE4-955A49E6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81A85-50DF-4712-890D-A0AA08FE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501D7-C352-4B92-9830-09D922FD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DA792-EFA5-46FC-A1C3-BB3A8AB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F189A-04C5-4DB9-A0D2-C7E23D7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5216-63BC-4104-B256-48EE55C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054F-D4DC-4175-A383-927C930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F4B16-A1C9-4DF1-837D-3439FC79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DEE5-F198-4E0A-94C1-ED74631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CBB-903B-4505-88C2-F9962CE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39C1C-CC2C-442A-A4EA-40C0B68A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0620-230F-4D13-B2DB-89BCC4D1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A5162-63B5-40E7-B87F-5A278C5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0031-4A44-4256-8C1A-978A892B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1376B-0E8E-4926-B945-1F2D660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250-7D5D-4B51-AC5A-0B2E5E8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03BA-4624-45D8-89B8-5349F3E3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F1D-2F68-46FC-A473-A5BE0D65CD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B7F9-0FAE-4591-8ABB-2E1336C627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49D7-FCA1-478A-B153-A78E79909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1D7-09B6-4E0E-8F22-53C76E9AA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921F-17BE-4F1A-B056-9A16D961539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27C0-653E-4171-A84E-D31857B276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.WAV" TargetMode="External"/><Relationship Id="rId2" Type="http://schemas.microsoft.com/office/2007/relationships/media" Target="file:///tmp/home/.config/libreoffice/4/user/gallery/~PP1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24.WAV" TargetMode="External"/><Relationship Id="rId2" Type="http://schemas.microsoft.com/office/2007/relationships/media" Target="file:///tmp/home/.config/libreoffice/4/user/gallery/~PP2124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57.WAV" TargetMode="External"/><Relationship Id="rId2" Type="http://schemas.microsoft.com/office/2007/relationships/media" Target="file:///tmp/home/.config/libreoffice/4/user/gallery/~PP405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71.WAV" TargetMode="External"/><Relationship Id="rId2" Type="http://schemas.microsoft.com/office/2007/relationships/media" Target="file:///tmp/home/.config/libreoffice/4/user/gallery/~PP227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1.WAV" TargetMode="External"/><Relationship Id="rId2" Type="http://schemas.microsoft.com/office/2007/relationships/media" Target="file:///tmp/home/.config/libreoffice/4/user/gallery/~PP6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1.WAV" TargetMode="External"/><Relationship Id="rId2" Type="http://schemas.microsoft.com/office/2007/relationships/media" Target="file:///tmp/home/.config/libreoffice/4/user/gallery/~PP11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669.WAV" TargetMode="External"/><Relationship Id="rId3" Type="http://schemas.microsoft.com/office/2007/relationships/media" Target="file:///tmp/home/.config/libreoffice/4/user/gallery/~PP366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24.WAV" TargetMode="External"/><Relationship Id="rId3" Type="http://schemas.microsoft.com/office/2007/relationships/media" Target="file:///tmp/home/.config/libreoffice/4/user/gallery/~PP24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file:///tmp/home/.config/libreoffice/4/user/gallery/~PP2241.WAV" TargetMode="External"/><Relationship Id="rId5" Type="http://schemas.microsoft.com/office/2007/relationships/media" Target="file:///tmp/home/.config/libreoffice/4/user/gallery/~PP2241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4035.WAV" TargetMode="External"/><Relationship Id="rId3" Type="http://schemas.microsoft.com/office/2007/relationships/media" Target="file:///tmp/home/.config/libreoffice/4/user/gallery/~PP403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21.WAV" TargetMode="External"/><Relationship Id="rId2" Type="http://schemas.microsoft.com/office/2007/relationships/media" Target="file:///tmp/home/.config/libreoffice/4/user/gallery/~PP142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3060.WAV" TargetMode="External"/><Relationship Id="rId3" Type="http://schemas.microsoft.com/office/2007/relationships/media" Target="file:///tmp/home/.config/libreoffice/4/user/gallery/~PP3060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03.WAV" TargetMode="External"/><Relationship Id="rId2" Type="http://schemas.microsoft.com/office/2007/relationships/media" Target="file:///tmp/home/.config/libreoffice/4/user/gallery/~PP1303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ein Feri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: Max Shey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lle Europa besichtig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76932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camping in den ber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panien musik geho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600200" y="1295280"/>
            <a:ext cx="65502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1600200" y="1143000"/>
            <a:ext cx="6477120" cy="55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souvenirs gekauf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6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ch habe im ozean geangelt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8119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Europ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40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038480" cy="2322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24320" cy="2428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2514600" y="3757680"/>
            <a:ext cx="4343400" cy="31003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in Deutschland, England, und Spaini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6276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Berg gewand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456084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507528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amilie besuc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1228680"/>
            <a:ext cx="7506000" cy="562932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Ozean geschwomm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861084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8Z</dcterms:created>
  <dc:creator>CUSD220</dc:creator>
  <dc:description/>
  <dc:language>en-US</dc:language>
  <cp:lastModifiedBy>CUSD220</cp:lastModifiedBy>
  <dcterms:modified xsi:type="dcterms:W3CDTF">2011-11-16T17:05:34Z</dcterms:modified>
  <cp:revision>5</cp:revision>
  <dc:subject/>
  <dc:title>Mein Ferien</dc:title>
</cp:coreProperties>
</file>